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4E6-988A-4FA9-B8E3-04CEC671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B6C-37EB-4BBD-B1AE-5F9EB1F2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B072-1D19-4EE3-99FC-5636F34D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4BE-3B99-4225-809B-731B7C64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63C-BC82-4590-BDD3-70FAAD0E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3CCD-D2BB-4B43-A52A-9B8DD357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384-6FF6-4D22-A728-94138E3D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F8CB-EA3A-4BC8-B530-EABD0DEF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CDA-4288-42E4-9D7F-3C935D70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D00-60CE-4C44-A50F-D1F0313B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ABF-6028-48F7-8DF5-414414C5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1F1-7CCE-4FD3-B5F6-788F6FB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75D-DAB5-4BCA-B0ED-EAF8D7CC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5F9-90AD-4AD2-84B0-D27C471B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AD4-7755-4358-874D-99B0BA47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423-32BD-4D9B-8C72-E8432B66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3DF-E17E-4D8D-B387-62C78AF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33F-297F-4EDE-A13D-4B55AB6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2BC-3CCC-4544-B866-2B0F636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480-16AD-4764-BBEB-0499D0F4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8FD-4C26-44E1-98CE-4FBF324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061-C3FC-4D2E-91EB-E716BBCE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28600" y="228600"/>
            <a:ext cx="87631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Team-Based Learning in Large-Enrollment Introductory Biology Cou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Jeff Carmi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1055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228600"/>
            <a:ext cx="876312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After ten years of lecturing….. a need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Teacher “burnou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tudents not really enga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ow classroom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Very few student-generate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Crowded theatre-style class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NO NAME:BLC2011:mov.mov" descr="/Volumes/NO NAME/BLC2011/mov.mov"/>
          <p:cNvPicPr/>
          <p:nvPr/>
        </p:nvPicPr>
        <p:blipFill>
          <a:blip r:embed="rId1"/>
          <a:stretch/>
        </p:blipFill>
        <p:spPr>
          <a:xfrm>
            <a:off x="-1521000" y="-144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763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TBL Course Element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earning Assignment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Individual and team-based quizzes (readiness assessment tests-- RA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Appea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Ex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228600"/>
            <a:ext cx="87631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Positive Impacts of TB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igher exam sc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igher responses on student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More positive energy in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tudents more willing to question/discu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7631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Pitfalls/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ome up front developmen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Not all students appreciate 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ave to give up “lecture tim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Not all students contribute equally to the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Potential for easy “cheating” during quiz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</a:rPr>
              <a:t>Team-Based Learning (TB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eambased learning cover"/>
          <p:cNvPicPr/>
          <p:nvPr/>
        </p:nvPicPr>
        <p:blipFill>
          <a:blip r:embed="rId1"/>
          <a:stretch/>
        </p:blipFill>
        <p:spPr>
          <a:xfrm>
            <a:off x="3276720" y="1295280"/>
            <a:ext cx="2246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ppeals"/>
          <p:cNvPicPr/>
          <p:nvPr/>
        </p:nvPicPr>
        <p:blipFill>
          <a:blip r:embed="rId1"/>
          <a:stretch/>
        </p:blipFill>
        <p:spPr>
          <a:xfrm>
            <a:off x="228600" y="204840"/>
            <a:ext cx="84582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2:27:10Z</dcterms:created>
  <dc:creator>Jeff/Carmichael</dc:creator>
  <dc:description/>
  <dc:language>en-US</dc:language>
  <cp:lastModifiedBy>Robin Heyden</cp:lastModifiedBy>
  <dcterms:modified xsi:type="dcterms:W3CDTF">2011-03-12T17:20:10Z</dcterms:modified>
  <cp:revision>6</cp:revision>
  <dc:subject/>
  <dc:title>Doe this movie work?</dc:title>
</cp:coreProperties>
</file>